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A3C-954A-4C1D-BB68-A6063CA7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64D-1446-481B-9E99-319D2B9C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101-277F-4A83-90D6-5DC14BAF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5DF-85B9-4A0B-9DF7-738DEFA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72D-3983-4E87-936E-707E7C54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3B3-00A6-48BA-B476-B40698DA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030-5D92-4846-AE20-6945DE9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382-009A-4F80-97AE-E50983E2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5C2-EC54-4B44-918F-DAA00BFE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A67-329F-4858-82CA-7C6A959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E42-2BB9-4AD4-A9F1-63912F7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6DD-B002-47D3-A0D4-DAD8C7F1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6040" cy="756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Click to edit the title text format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9C8BA-4375-4F9C-BDF9-3E3FDF5AE6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d3-eiid-Uw" TargetMode="External"/><Relationship Id="rId2" Type="http://schemas.openxmlformats.org/officeDocument/2006/relationships/hyperlink" Target="http://www.youtube.com/watch?v=IbL3zLWFqI8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496600"/>
            <a:ext cx="9069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d320"/>
                </a:solidFill>
                <a:latin typeface="Trajan Pro"/>
              </a:rPr>
              <a:t>Head </a:t>
            </a:r>
            <a:r>
              <a:rPr b="0" lang="en-US" sz="5400" spc="-1" strike="noStrike">
                <a:solidFill>
                  <a:srgbClr val="ffd320"/>
                </a:solidFill>
                <a:latin typeface="Trajan Pro"/>
              </a:rPr>
              <a:t>Tracking</a:t>
            </a:r>
            <a:endParaRPr b="0" lang="en-US" sz="5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3504960"/>
            <a:ext cx="9069480" cy="15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4002.790.01 – Emerging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Joe Pietru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625920"/>
            <a:ext cx="5486400" cy="1440"/>
          </a:xfrm>
          <a:prstGeom prst="line">
            <a:avLst/>
          </a:prstGeom>
          <a:ln w="93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What is Head Tracking?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Viewer's Position relative to Displa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isplay Size and Viewing Angl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Viewpoint Dependent 3D Displa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3886200"/>
            <a:ext cx="2870280" cy="3897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439092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Emerging ... How?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nsing System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Processing Power/Speed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mart Peopl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Demand for Engaging Experience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Real-World Examples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Johnny Chung Lee –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youtube.com/watch?v=Jd3-eiid-Uw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rackIR –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IbL3zLWFqI8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Is it Practical?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ompared to the alternatives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Polarized Projection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Shutter Glasses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Pepper's Ghost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Spinning Mirrors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heap and Eas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Benefits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Works with existing Displa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onvincing Interaction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One step closer to the Holodeck!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ets Players off the Sof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Drawbacks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ets Players off the Sof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ngle Player Simultaneousl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creen Edges Break Illusion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Requires Calibration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Requires Headgear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d320"/>
                </a:solidFill>
                <a:latin typeface="Trajan Pro"/>
              </a:rPr>
              <a:t>My Prototype</a:t>
            </a:r>
            <a:endParaRPr b="0" lang="en-US" sz="4400" spc="-1" strike="noStrike">
              <a:solidFill>
                <a:srgbClr val="ffd320"/>
              </a:solidFill>
              <a:latin typeface="Trajan 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et it up and running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et a Virtual Turret tracking Player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Hiding” Mechanic: Dive behind the sofa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ame: Shoot or be shot!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74000" y="45226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19:22Z</dcterms:created>
  <dc:creator/>
  <dc:description/>
  <dc:language>en-US</dc:language>
  <cp:lastModifiedBy/>
  <cp:revision>1</cp:revision>
  <dc:subject/>
  <dc:title/>
</cp:coreProperties>
</file>